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17.xml" ContentType="application/vnd.openxmlformats-officedocument.presentationml.comments+xml"/>
  <Override PartName="/ppt/comments/comment18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" initials="a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<Relationship Id="rId31" Type="http://schemas.openxmlformats.org/officeDocument/2006/relationships/commentAuthors" Target="commentAuthors.xml"/>
</Relationships>
</file>

<file path=ppt/comments/comment17.xml><?xml version="1.0" encoding="utf-8"?>
<p:cmLst xmlns:p="http://schemas.openxmlformats.org/presentationml/2006/main">
  <p:cm authorId="0" dt="2015-03-28T18:10:37.900000000" idx="1">
    <p:pos x="5616" y="864"/>
    <p:text/>
  </p:cm>
</p:cmLst>
</file>

<file path=ppt/comments/comment18.xml><?xml version="1.0" encoding="utf-8"?>
<p:cmLst xmlns:p="http://schemas.openxmlformats.org/presentationml/2006/main">
  <p:cm authorId="0" dt="2015-03-28T18:10:37.900000000" idx="2">
    <p:pos x="5616" y="864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F0F5F-D9B0-4958-9994-0F6652F9BB99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2E6EE-C966-4091-BC85-78211520FF3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0D706-B070-4726-9EA7-3491B90EF6C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BF70D-B78C-4299-A81E-B1138B9AD8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616CC-B973-4848-9997-5C69848AE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D189B-A08C-4132-83F8-BC699D929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EB08F-4973-4C55-B0E0-7656CFE826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F237C-8F20-4DE2-B7A7-A9E69CF44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872E4-C497-4756-AE0D-3CB7FA188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B3EAC-B4C4-49DF-B801-4B56F1F4E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5B858-5C36-4CA4-B2C8-19F69FAD3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B4F77-F75D-439C-8A28-C10676F6B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AA0F0-6CE1-4C1A-9780-85F8AE4B6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A38EE-720B-4361-8F78-37179CB31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E2515-28C1-4D5F-A202-54842CA3A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C1EC2-C01E-4C45-BAED-D301EC105C0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7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8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4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44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4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该患者已明确为弥漫性腹膜炎，目前采取非手术治疗，予以禁食、胃肠减压等治疗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问题：目前观察和护理的重点内容有哪些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腹膜受炎症刺激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呕吐、禁食、腹膜广泛渗出、发热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温过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腹膜炎或合并其他部位感染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感染性休克、腹腔脓肿、粘连性肠梗阻、切口感染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76080" indent="-2599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非手术治疗的护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胃肠减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静脉输液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抗感染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症护理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需手术治疗者，应做好术前常规准备工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位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禁食、胃肠减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静脉输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抗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腔引流的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观察与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膈下脓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盆腔脓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化脓性细菌（包括需氧和厌氧菌或两者混合）所引起的腹膜腔急性炎症称急性化脓性腹膜炎。按发病机制可为原发性和继发性两种，以后者多见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主要表现为腹痛、恶心呕吐和全身感染中毒症，有明显腹膜刺激征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除病因、促使腹腔炎症消退和局限，引流腹腔渗液，改善机体情况。其具体措施为：取半坐卧位（休克者除外）、禁食、补液、胃肠减压、应用抗生素及手术剖腹探查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注意观察生命体征和腹部情况，未明确诊断禁用止痛剂，半坐卧位、禁食、补液、胃肠减压、应用抗生素，作好术前护理准备。术后护理：观察生命体征、腹部情况、伤口及引流，鼓励下床活动，防止并发症发生；胃肠功能恢复后可解除胃肠减压并进食，适当应用止痛剂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右下腹突然剧烈疼痛持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入院。入院前一天晚上饮酒饱餐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，因右下腹突然疼痛而醒。疼痛呈持续性，刀割样。伴恶心，呕吐数次，呕吐物为食物，无咖啡色物和鲜血，腹痛很快扩展到全腹后略有缓解，但仍以右下腹为主。无排便，小便无异常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后入住医院。既往无右下腹疼痛病史，但有反复发作的上腹反酸、嗳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痛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或少量饮食后能缓解，无黑便及呕血史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38.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脉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血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0/7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急性面容，右侧卧位，心肺正常，腹部轻度膨隆，全腹肌紧张、拒按，以右下腹为明显，移动性浊音可疑，未闻及肠鸣音。直肠指诊：直肠窝饱满未扪及肿块，右侧触痛明显。血常规检查：白细胞计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8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中性粒细胞比例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8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腹部透视：全部肠曲明显充气，未见肠腔积液，膈下游离气体可疑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该患者目前的诊断是什么？可能的原因是什么？如何确诊？目前主要处理措施有哪些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可能的医疗诊断是急性弥漫性腹膜炎。理由是：突发腹部剧痛、明显腹膜刺激征，既往胃病史、发病前饱餐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能是胃十二指肠溃疡穿孔，也可能是急性坏疽性阑尾炎穿孔；需要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等明确病变的部位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处理措施：禁食、补液、胃肠减压、半卧位、抗生素应用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急性化脓性腹膜炎的概念、分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出急性化脓性腹膜炎的常见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举例说明继发性腹膜炎的常见病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急性化脓性腹膜炎的转归临床表现和处理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护理程序对急性腹膜炎患者实施围术期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腹膜炎术后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化脓性腹膜炎最常见的原因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空腔脏器穿孔或破裂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腔内脏器缺血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腔内炎症扩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术污染腹腔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原发性腹膜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化脓性腹膜炎最有利于病情局限的体位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平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侧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半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中凹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头低脚高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急性胃穿孔腹膜炎术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，突然出现寒战、高热、出汗等全身中毒症状，并伴有上腹痛、呃逆等，患者最可能发生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切口感染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肺部感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全身感染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腹腔脓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休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停止胃肠减压的指征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胀加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引流液突然减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痛减轻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胃肠功能恢复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胃液引流过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腹膜炎的非手术疗法护理不妥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一般减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禁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胃肠减压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使用吗啡等镇痛剂止痛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抗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A    2.C   3.D    4.D   5.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2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化脓性腹膜炎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ute suppurative peritonitis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指由化脓性细菌（包括需氧和厌氧菌或两者混合）所引起的腹膜腔急性炎症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腹膜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rimary periton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继发性腹膜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ary periton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前突发性左上腹部剧烈疼痛，并迅速波及全腹，发病后曾呕吐两次，为胃内容物。既往有溃疡病史，近期有胃痛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体温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8.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脉搏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血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90/6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痛苦病容，平卧屈膝被动屈膝位，腹部平坦，腹式呼吸消失，腹肌紧张，全腹有明显压痛，反跳痛，移动性浊音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叩诊肝浊音界缩小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诊断性腹腔穿刺：抽得含食物残渣的浑浊液体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常规检查显示：白细胞计数为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4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中性粒细胞比例为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8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①该患者的可能的发病原因有哪些？②护理评估的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痛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恶心、呕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温、脉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感染中毒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部体征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诊断性腹腔穿刺抽液术或腹腔灌洗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腹膜炎的发病相关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681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内脏器穿孔或破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681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腔脏器炎症扩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681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腹膜炎的发病相关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水、电解质紊乱和酸碱失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菌药物应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充热量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镇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灶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理腹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6-17T09:59:29Z</dcterms:modified>
  <cp:revision>85</cp:revision>
  <dc:subject/>
  <dc:title>内科护理学</dc:title>
</cp:coreProperties>
</file>